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685-DB30-4D36-9C82-8D0B52C3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8DC-B975-4E6C-8D22-2DECEF4A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029-2633-4628-8AA4-9E7E22C3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8A2-33B7-4F37-BCB2-F5B67E85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BFE9-0C40-4289-8864-8221BDB8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6790-73D9-4F0C-A28F-726594F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252C-FA79-484B-A9A0-B72075CE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525-5E8D-421E-9DE2-51A9FFA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BBB8-5A3C-4771-93E6-570E0191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EBA8-8D71-498C-8722-7667A22B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ECFC-12F5-4149-A503-807AE0D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3FE-DCBF-4F01-9030-327B55F8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8CD5-7434-4B8C-8B39-4B729C4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A15D-2EC9-4E29-9336-0DC12E3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ACDA-C91A-4EA0-AD11-E31AA164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E80B-93DC-4CED-B64F-89AC67F0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1736-2909-4FF1-946A-D9E0C81A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FB5-0E6A-4B0A-A284-AB374172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56C-9F22-4C66-B720-5D554DF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A20-DEC5-47DD-B9F6-DD1B036F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85C-E816-460A-8555-9F5E0C9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F0B-5BC8-4DEE-9471-34661D5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15D-2E70-475F-8EAA-C5D3844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974-072D-4D5B-ACC7-D0312E1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8848-1A44-4BEF-AC91-BAA1A27630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30C4-097E-4C73-8B73-25860731C1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Garamond"/>
              </a:rPr>
              <a:t>Актуальность работы с исторической карто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43360" y="3962520"/>
            <a:ext cx="321444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: Учитель истории и обществозн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Лицей № 2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шлов С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3456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ение и составление легенды кар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черчивание объектов на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176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умайте условные значки для игрового сюжета по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рисуйте и подпишите объекты на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71280" y="691920"/>
            <a:ext cx="725796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я на анализ содержания исторической кар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привлечением знаний из других источ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620640"/>
            <a:ext cx="75452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"По карте "Расселение людей в Восточном полушарии 10—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 тыс. лет назад"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оследите, как изменялас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ощадь земледел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0—7 тыс. лет назад, 7—5..., 5—4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ажите территорию, где в эти же периоды обитали ското­воды и охотники. Была ли разница в уровне жизни первобытных земледельцев и охотников? Объясните ее на основании кар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ы можете объяснить существование "белых пятен" на этой карте?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579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"Сравни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тическую карту мира к началу Новог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V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 и к концу его (к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. В качестве линий дл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я используйте присутствие на карте суверенных государств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колоний, коло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делайте вывод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характере основных изменений на карте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620640"/>
            <a:ext cx="77770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Охарактеризуйт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политическое положение России 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е к конц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по следующему плану: континентальное положение; территория и климатические зоны; этнический состав населения; соседи; природные богатства; внешнеполитическое наследие предшествующих эпох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77612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я на локализацию исторических фактов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рте с элементами анализа ее содержания для решения проблемных зада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640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"Покажите по карте первые районы земледелия/металлургии. Объясните, почему они стали древнейшими очагами новой культуры?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"Объясните, как человек разумный смог освоить Землю "не замочив ног"?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"Определите с помощью карты, в каких районах Земл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ачестве денег 10—4 тысячи лет назад могли использоваться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рские раковины; перья экзотических птиц; поросячьи хвостики; мешочки с какао-бобами; шкурки пушных зверьков; бруски железа и т. д.?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кие образные задани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"Проложите по карте путь юного первопроходца, который на самом деле мог 15 тысяч лет назад от реки Амур через остров Сахалин добраться до Курильского архипелага и острова Хоккайдо. Расскажите, каких грозных животных и необычные природные явления увидел он на своем пути? Какие племена ему встретились? Чем они занимались? Поскольку мы сейчас пользуемся искаженными древними названиями рек, озер, долин и т. п., придумайте свои топонимы или объясните по-своему значение сохранившихся названий.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Задания на восстановление соответствия в одном из столбцов содержат картографические данные, в другом — события или даты, или имена исторических деятелей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отнесите имена основателей с названиями городов, ими залож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ск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Владимир Моном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ие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Ярослав Мудр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рославл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Святосл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Юрье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Юрий Долгору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яслав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ми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дания на группировку картографических сведений строятся на самых разнообразных критериях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метьте географические пункты, через которые новгородские купцы могли попасть: а) в Черное море, б) в Каспийское море, в) в Балтийское мор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метьте княжества, связанные с деятельностью: а) Андрея Боголюбского, б) Всеволода Мстиславича, в) Романа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стиславича, г) Юрия Долгорукого, д) Всеволода Большое Гнезд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вые стандарты школьного образования по истории, включают в себя целый ряд умений, предполагающих приобретение школьниками определенных навыков работы с медиатекстами, т.е. сообщениями средств массовой коммун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частности, можно назвать следу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водить поиск исторической информации в источниках разного тип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итически анализировать источник исторической информации (характеризовать авторство источника, время, обстоятельства и цели его созда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ировать историческую информацию, представленную в разных знаковых системах (текст, карта, таблица, схема, аудиовизуальный ряд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ать в исторической информации факты и мнения, исторические описания и исторические объясн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аствовать в дискуссиях по историческим проблемам, формулировать собственную позицию по обсуждаемым вопросам, используя для аргументации исторические с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артографический диктант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с картографической сеткой, где нанесены географические названия, связанные с определенным историческим событием, а ученики должны соединить их в заданном порядк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чистых листах бумаги по памяти ученики выполняют одно за другим задания, охватывающие содержание важной темы или раздела. Например, "Восстание рабов под предводительством Спартака"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рисуйте контуры Аппенинского полуострова и остров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цил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них обозначьте принятыми значками и надпишит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. Рим и реку, на которой он основа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род, где находилась школа гладиаторов, в которой Спартак преподавал последние год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вый лагерь восставших рабов-гладиатор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6756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игровые способы проверки картографических знаний являются задания, условно именуемые "Маршруты", "Путешествия", "Походы"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3780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кольникам предлагается только по контуру движения (конфигурации походов первооткрывателей и исследователей новых земель, предводителей, военачальников и т. п.) узнать, какой исторический факт здесь отображ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536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"Определите, на какой схеме изображен путь экспедиции Васко да Гама, на какой — Бартоломеу Диаша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хема №»1     Схема №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211640" y="4076640"/>
            <a:ext cx="1905120" cy="1704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076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задания, рассчитанные на образное воображение облегчающие запоминание очертаний географических объектов и ориентировку в условных символах исторических карт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что похожи контуры: Аппенинского полуострова? острова Сицилия? острова Великобритания? остров Сахалин? Северная часть Персидского залива с устьями рек Тигр и Евфрат? долина Нила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4739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уют задания, направленные на выясн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я топонимов и этнони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поискового характера на отыскание родин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ычных для нас сейчас предметов, продуктов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42976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Arial"/>
              </a:rPr>
              <a:t>Спасибо за внимание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Администратор\Desktop\img10.jpg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Основная цель картографических заданий в школьных курсах истории – способствовать формированию представлений об историческом пространстве, обучая школьников пользоваться историческими картам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ТА - уменьшенное обобщенное изображение поверхности Земли (или ее части) на плоскости. Человек создавал карты с древнейших времен, пытаясь наглядно представить взаимное расположение различных участков суши и морей. Собрание карт, обычно переплетенных вместе, называют атласом (термин введен фламандским картографом эпохи Возрождения Герардом Меркаторо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Tahoma"/>
              </a:rPr>
              <a:t>Работа с карт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эффективное формирование у «начинающих историков» необходимых познавательных ум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устойчивый интерес к сложному для них виду условно-графической нагляд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ктуализация знаний, содействующих пониманию исторических событий и явл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5400000">
            <a:off x="4063680" y="812520"/>
            <a:ext cx="862200" cy="1827360"/>
          </a:xfrm>
          <a:prstGeom prst="pie">
            <a:avLst/>
          </a:prstGeom>
          <a:solidFill>
            <a:srgbClr val="cc99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838080" y="304920"/>
            <a:ext cx="75438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ология картографических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267080" y="12952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914400" y="12193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8153280" y="12193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2438280" y="12193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6095880" y="1295280"/>
            <a:ext cx="76320" cy="609840"/>
          </a:xfrm>
          <a:prstGeom prst="downArrow">
            <a:avLst>
              <a:gd name="adj1" fmla="val 50000"/>
              <a:gd name="adj2" fmla="val 19976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0" y="1905120"/>
            <a:ext cx="1676520" cy="53316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Универс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1714680" y="1928880"/>
            <a:ext cx="1900080" cy="53316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Тестовое за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3657600" y="1905120"/>
            <a:ext cx="1828800" cy="53316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</a:rPr>
              <a:t>Картограф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</a:rPr>
              <a:t> дикт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562720" y="1905120"/>
            <a:ext cx="1752480" cy="53316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Заоч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путеше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7391520" y="1905120"/>
            <a:ext cx="1752480" cy="5331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Обра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 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0" y="2666880"/>
            <a:ext cx="1523880" cy="396252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Задания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из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 анал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рж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Твор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00200" y="2666880"/>
            <a:ext cx="1981080" cy="396252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Задание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ограф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х, дат и им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Задание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ппиров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пре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657600" y="2666880"/>
            <a:ext cx="1752480" cy="396252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ние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ную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ыслов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5486400" y="2666880"/>
            <a:ext cx="1828800" cy="396252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7391520" y="2666880"/>
            <a:ext cx="1752480" cy="3962520"/>
          </a:xfrm>
          <a:prstGeom prst="rect">
            <a:avLst/>
          </a:prstGeom>
          <a:solidFill>
            <a:srgbClr val="00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иров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сло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во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че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2"/>
          <p:cNvSpPr/>
          <p:nvPr/>
        </p:nvSpPr>
        <p:spPr>
          <a:xfrm>
            <a:off x="7621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4"/>
          <p:cNvSpPr/>
          <p:nvPr/>
        </p:nvSpPr>
        <p:spPr>
          <a:xfrm>
            <a:off x="25146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6"/>
          <p:cNvSpPr/>
          <p:nvPr/>
        </p:nvSpPr>
        <p:spPr>
          <a:xfrm>
            <a:off x="43434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7"/>
          <p:cNvSpPr/>
          <p:nvPr/>
        </p:nvSpPr>
        <p:spPr>
          <a:xfrm>
            <a:off x="61722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8"/>
          <p:cNvSpPr/>
          <p:nvPr/>
        </p:nvSpPr>
        <p:spPr>
          <a:xfrm>
            <a:off x="8153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9"/>
          <p:cNvSpPr/>
          <p:nvPr/>
        </p:nvSpPr>
        <p:spPr>
          <a:xfrm>
            <a:off x="7543800" y="64771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806436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цель картографических заданий в школьных курсах истории — способствовать формированию представлений об историческом пространств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ассификац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р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ртосхемы (Аттика в древ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кальные планы (Бородинская бит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ы на местности (План города Афи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урные кар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охвату территории (мировые, материковые, карты государ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содерж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зорные(Индия, Китай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бщающие(Государства мира в древнос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тические(Завоевания Александра Македонског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своему масштабу (крупномасштабные, средне-, мелко-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Garamond"/>
              </a:rPr>
              <a:t>Организация познавательной деятельности при работе с картой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и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окализация исторических событий на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Оживление» карты наглядными средств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д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ажите объект на карте и словами опишите его местопо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крепление значков, символов, апплик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0:59:20Z</dcterms:created>
  <dc:creator>Пользователь</dc:creator>
  <dc:description/>
  <dc:language>en-US</dc:language>
  <cp:lastModifiedBy>Дмитрий Каленюк</cp:lastModifiedBy>
  <dcterms:modified xsi:type="dcterms:W3CDTF">2018-11-19T18:51:55Z</dcterms:modified>
  <cp:revision>8</cp:revision>
  <dc:subject/>
  <dc:title>Работа с картой на уроке истории</dc:title>
</cp:coreProperties>
</file>